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557-B51E-4A1F-A353-8E3FF0A61C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20B4-6746-44E1-A0D3-5A359CA2D8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75F-5947-4F2F-9CC9-7485A10D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94B-284C-4CB2-99FF-97DE5BB8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EC3-F91F-4BC3-9244-BB3AF77C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B12-8F42-4807-974A-07E40556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361-C313-4BD7-9FF0-2BE5EBC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C92-968A-4666-9DC2-CAE8DAAC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3FD-D5B4-4F19-AB96-3E115501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BEB-1809-4C20-943C-44AE66E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D7F-EBFA-4693-8DD6-F8FB797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F42-8CCE-4DE0-B9D7-569D50F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9AF-B89B-44B7-BF5C-C76A227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A82-3F13-43D4-8526-03FE1FF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30C-EDD5-4890-ACDA-B12E9DFD3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组合 20" descr=""/>
          <p:cNvPicPr/>
          <p:nvPr/>
        </p:nvPicPr>
        <p:blipFill>
          <a:blip r:embed="rId1"/>
          <a:stretch/>
        </p:blipFill>
        <p:spPr>
          <a:xfrm>
            <a:off x="1011240" y="2567160"/>
            <a:ext cx="71215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755640" y="220500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一、漂亮的翠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么美丽的小鸟哇！它有一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羽毛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，翅膀带有一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还漂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段共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句话，写了小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rcRect l="7464" t="14600" r="5925" b="23766"/>
          <a:stretch/>
        </p:blipFill>
        <p:spPr>
          <a:xfrm>
            <a:off x="3000240" y="1265400"/>
            <a:ext cx="3121200" cy="939600"/>
          </a:xfrm>
          <a:prstGeom prst="rect">
            <a:avLst/>
          </a:prstGeom>
          <a:ln w="0">
            <a:noFill/>
          </a:ln>
        </p:spPr>
      </p:pic>
      <p:sp>
        <p:nvSpPr>
          <p:cNvPr id="51" name="矩形 7"/>
          <p:cNvSpPr/>
          <p:nvPr/>
        </p:nvSpPr>
        <p:spPr>
          <a:xfrm>
            <a:off x="5694120" y="34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7292520" y="34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2726280" y="395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翠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6860880" y="395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2180160" y="45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鹦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836440" y="5052960"/>
            <a:ext cx="7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6922800" y="506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1869840" y="558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羽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3763800" y="559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翅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"/>
          <p:cNvSpPr/>
          <p:nvPr/>
        </p:nvSpPr>
        <p:spPr>
          <a:xfrm>
            <a:off x="826920" y="256536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中画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句子要读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赞叹　　　②不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6255360" y="2637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635040" y="1209600"/>
            <a:ext cx="775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二、捕鱼的翠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横线上填上恰当的表示动作的词语，并仿写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正想着，它一下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水里不见了。可是，没一会儿，它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来了，红色的长嘴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一条小鱼。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船头，一口把小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下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仿照上面的句子再写几句类似含有动词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4276440" y="240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3547800" y="2955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飞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7542360" y="294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700440" y="351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7546680" y="351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1017720" y="5033880"/>
            <a:ext cx="71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0f4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拿起一个馒头，张开嘴巴，咬上一口，慢慢地品尝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692280" y="2060640"/>
            <a:ext cx="78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三、搭船的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搭”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乘，坐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搭理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支，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搭船的鸟”一个“搭”字使鸟儿具有了灵性，体现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和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3635280" y="4365720"/>
            <a:ext cx="8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2890800" y="2708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2279520" y="435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7168"/>
          <p:cNvSpPr/>
          <p:nvPr/>
        </p:nvSpPr>
        <p:spPr>
          <a:xfrm>
            <a:off x="611280" y="2205000"/>
            <a:ext cx="785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一、延伸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翠鸟叫声清脆，爱贴着水面疾飞，一眨眼，它已轻轻地落在苇秆上了。它一动不动，注视着泛着微波的水面，等待着小鱼游到水面上来。小鱼悄悄地把头露出水面，吹了个小泡泡。尽管小鱼很机灵，还是难以逃脱翠鸟锐利的眼睛。它冲进水里叼起小鱼飞回船头。水波还在荡漾，小鱼已经成了翠鸟的美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2770200" y="1054080"/>
            <a:ext cx="3603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7168"/>
          <p:cNvSpPr/>
          <p:nvPr/>
        </p:nvSpPr>
        <p:spPr>
          <a:xfrm>
            <a:off x="539640" y="2079720"/>
            <a:ext cx="824724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．短文共有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句话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．请你用“机灵”说一句话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．读了短文后，我知道翠鸟叫声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，爱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，它眼睛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，行动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2590560" y="2173320"/>
            <a:ext cx="34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1023840" y="3241800"/>
            <a:ext cx="7547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1b10f4"/>
                </a:solidFill>
                <a:latin typeface="宋体"/>
              </a:rPr>
              <a:t>示例：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小松鼠很机灵，听到一点儿动静就爬到树上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5123880" y="3757680"/>
            <a:ext cx="53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清脆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6846840" y="3757680"/>
            <a:ext cx="1232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贴着水面疾飞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2055960" y="4282920"/>
            <a:ext cx="823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　锐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808880" y="428292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168"/>
          <p:cNvSpPr/>
          <p:nvPr/>
        </p:nvSpPr>
        <p:spPr>
          <a:xfrm>
            <a:off x="826920" y="191628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二、百字练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生活中，你有没有动物朋友？你和它有什么故事？写一写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1406520" y="36241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2-09T15:30:31Z</dcterms:modified>
  <cp:revision>80</cp:revision>
  <dc:subject/>
  <dc:title>PowerPoint 演示文稿</dc:title>
</cp:coreProperties>
</file>